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5C12-AB5D-482E-88B2-0DE8542DD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teachers go to this site and complete quizz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out on Chang—identify mismatches and mat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Blue Differentiated Instruction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out:  Beach ball/clipboard/microscope/puppy:  page 26-28 in Gr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30-31 in Blu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C73-69CD-4280-BE92-CE257522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EEE-6ED8-4270-8C9F-A65C3FB3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F50-178D-4095-B239-579322AB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D12-FD62-4218-9D09-E23112A6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DEF4-0200-4B0C-8EA0-E3F833E6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21B8-CC20-41F3-AFA3-703865E6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E9FE-1A2F-4C7D-939F-39DE323A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CE7D-170A-4C00-B718-AB44B046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EF29-5E6C-464A-A29B-7F3EC457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5A42-DD59-4980-9FF2-9BB4C9A0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EC13-24BD-402F-84CF-0D7ECA2F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332-316C-42D1-826B-6F3CCA0E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A156-8687-4EA0-A4E1-D803EB07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538C-7697-448F-BF8A-EEBB3C87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D821-399A-46AA-8BDF-AA394710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CE96-3D60-4273-A24C-5EFACD4D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E83D-71D2-4064-B12A-F6160E85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219-F560-459F-A4B8-00F00679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3BF-2AEB-48B7-B92D-D25D0B16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0CF-4F12-48D2-B3F7-CD9AD625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3B8-3FEF-4783-B682-E1691DA0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3EA-A9D5-4FF8-97F7-5B75DE66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C9B-6711-412A-9E7B-E22DF73A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4F5-3BBD-4F6E-9871-AFCD0746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83C8-5364-40A2-94BC-60FFAF8823D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E615-51E7-4701-8574-A3343D5889E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erghuis.co.nz/abiator/lsi/lsiframe.html" TargetMode="External"/><Relationship Id="rId2" Type="http://schemas.openxmlformats.org/officeDocument/2006/relationships/hyperlink" Target="http://www.berghuis.co.nz/abiator/lsi/lsiframe.html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Mufferaw"/>
              </a:rPr>
              <a:t> </a:t>
            </a:r>
            <a:r>
              <a:rPr b="0" lang="en-US" sz="4400" spc="-1" strike="noStrike">
                <a:solidFill>
                  <a:srgbClr val="ebd189"/>
                </a:solidFill>
                <a:latin typeface="Mufferaw"/>
              </a:rPr>
              <a:t>Creating and using Learning Profiles in the  Classroo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47560" y="41148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Enhancing Education Through Technology Gra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Pam Bl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October 20, 200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Mufferaw"/>
              </a:rPr>
              <a:t>Why use learning profiles in the classroom?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Tapping into the routes  for learning  promotes </a:t>
            </a:r>
            <a:r>
              <a:rPr b="1" lang="en-US" sz="2800" spc="-1" strike="noStrike">
                <a:solidFill>
                  <a:srgbClr val="ff0000"/>
                </a:solidFill>
                <a:latin typeface="Mufferaw"/>
              </a:rPr>
              <a:t>efficient</a:t>
            </a:r>
            <a:r>
              <a:rPr b="1" lang="en-US" sz="2800" spc="-1" strike="noStrike">
                <a:solidFill>
                  <a:srgbClr val="eaeaea"/>
                </a:solidFill>
                <a:latin typeface="Muffera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Mufferaw"/>
              </a:rPr>
              <a:t>effective</a:t>
            </a: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 learning for stude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Helping students understand their modes of learning that work best for them ensures lifetime learn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Offering options allows each learner to find a good learning fit in the class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Tomlinson, 200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189"/>
                </a:solidFill>
                <a:latin typeface="Mufferaw"/>
              </a:rPr>
              <a:t>Using Learning Profiles in the Classroom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tep I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ufferaw"/>
              </a:rPr>
              <a:t>Discover your own learning style and multiple intelligence strengths: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b97c01"/>
                </a:solidFill>
                <a:uFillTx/>
                <a:latin typeface="Mufferaw"/>
                <a:hlinkClick r:id="rId2"/>
              </a:rPr>
              <a:t>www.berghuis.co.nz/abiator/lsi/lsiframe.htm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Take the Learning Styles Test I and I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Take the Multiple Intelligence Assess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Explore the information provided on your learning style and multiple intelligence strength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Mufferaw"/>
              </a:rPr>
              <a:t>Using Learning Profiles in the Classroom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ebd189"/>
                </a:solidFill>
                <a:latin typeface="Mufferaw"/>
              </a:rPr>
              <a:t>Step II: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12960" y="14986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16002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Gathering facts about the learners in your classroom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25146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362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Muffera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Record Re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962520"/>
            <a:ext cx="7391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Muffera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Multiple Intelligences (Gregory &amp; Chapman, p. 28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Muffera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44956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Muffera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Thinking Styles ( Gregory &amp; Chapman,p. 2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34290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Muffera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Interest Inventories ( Gregory &amp; Chapman, p.2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8954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Muffera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Learning Styles (Gregory  &amp; Chapman, p. 20-2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Mufferaw"/>
              </a:rPr>
              <a:t>Rubric for knowing the learners  in  your classroom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1676520"/>
            <a:ext cx="74678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43000" y="1981080"/>
          <a:ext cx="7620120" cy="3884760"/>
        </p:xfrm>
        <a:graphic>
          <a:graphicData uri="http://schemas.openxmlformats.org/drawingml/2006/table">
            <a:tbl>
              <a:tblPr/>
              <a:tblGrid>
                <a:gridCol w="1604880"/>
                <a:gridCol w="1671840"/>
                <a:gridCol w="2097000"/>
                <a:gridCol w="22464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Non-us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Beginning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Routin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Refine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No attempts made  to Identify the uniqueness of learner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Students’ learning styles and multiple intelligences are explore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Provides a variety of assessment and instructional practices to routinely respect student learning styl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Through reflection and conferences with students, builds on and sets goals with students that consider the student’s uniqueness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bd189"/>
                </a:solidFill>
                <a:latin typeface="Mufferaw"/>
              </a:rPr>
              <a:t>Using Learning Profiles in the Classroom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bd189"/>
                </a:solidFill>
                <a:latin typeface="Mufferaw"/>
              </a:rPr>
              <a:t>Step III:</a:t>
            </a:r>
            <a:br>
              <a:rPr sz="3200"/>
            </a:b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36232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ufferaw"/>
              </a:rPr>
              <a:t>Begin by remember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Mufferaw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Mufferaw"/>
              </a:rPr>
              <a:t>Some, not all of your students share your learning style</a:t>
            </a: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1600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Mufferaw"/>
              </a:rPr>
              <a:t>Create learning profile friendly classro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3657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380988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ufferaw"/>
              </a:rPr>
              <a:t>Continue by help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ufferaw"/>
              </a:rPr>
              <a:t>Students explore and reflect on their own learning pro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5105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4100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ufferaw"/>
              </a:rPr>
              <a:t>Implement by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ufferaw"/>
              </a:rPr>
              <a:t>Retrofitting for Individuals or Differentiating for the whole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ETROFITTING </a:t>
            </a:r>
            <a:br>
              <a:rPr sz="2400"/>
            </a:br>
            <a:r>
              <a:rPr b="1" lang="en-US" sz="2400" spc="-1" strike="noStrike">
                <a:solidFill>
                  <a:srgbClr val="ebd189"/>
                </a:solidFill>
                <a:latin typeface="Mufferaw"/>
              </a:rPr>
              <a:t>Match and Mismatch</a:t>
            </a:r>
            <a:br>
              <a:rPr sz="2400"/>
            </a:br>
            <a:r>
              <a:rPr b="1" lang="en-US" sz="2400" spc="-1" strike="noStrike">
                <a:solidFill>
                  <a:srgbClr val="ebd189"/>
                </a:solidFill>
                <a:latin typeface="Mufferaw"/>
              </a:rPr>
              <a:t>Student vs. Class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1981080"/>
            <a:ext cx="7010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Realize a process is not working and remodel for a studen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Muffera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Gather facts about the learn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Muffera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Gather facts about the class/less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Content Deman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Process Deman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Product Deman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Muffera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Identify mismatch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Muffera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Mufferaw"/>
              </a:rPr>
              <a:t>Brainstorm solution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d189"/>
                </a:solidFill>
                <a:latin typeface="Mufferaw"/>
              </a:rPr>
              <a:t>Implement Strategies that Support Learning Differences for all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Mufferaw"/>
              </a:rPr>
              <a:t>1.  </a:t>
            </a:r>
            <a:r>
              <a:rPr b="1" lang="en-US" sz="2800" spc="-1" strike="noStrike">
                <a:solidFill>
                  <a:srgbClr val="fcab40"/>
                </a:solidFill>
                <a:latin typeface="Mufferaw"/>
              </a:rPr>
              <a:t>Vary the presentation of content</a:t>
            </a:r>
            <a:r>
              <a:rPr b="1" lang="en-US" sz="2800" spc="-1" strike="noStrike">
                <a:solidFill>
                  <a:srgbClr val="eaeaea"/>
                </a:solidFill>
                <a:latin typeface="Mufferaw"/>
              </a:rPr>
              <a:t>…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2666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audit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visu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2666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kinesthet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tact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Whole-to-par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3352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ufferaw"/>
              </a:rPr>
              <a:t>Part-to-who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733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cab40"/>
              </a:buClr>
              <a:buFont typeface="Muffera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b40"/>
                </a:solidFill>
                <a:latin typeface="Mufferaw"/>
              </a:rPr>
              <a:t>Vary student mode of expression and     teacher assessment</a:t>
            </a:r>
            <a:r>
              <a:rPr b="0" lang="en-US" sz="2800" spc="-1" strike="noStrike">
                <a:solidFill>
                  <a:srgbClr val="fcab40"/>
                </a:solidFill>
                <a:latin typeface="Mufferaw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4648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Write a po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4648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Conduct an invent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5410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Create a power poi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Dramatize or act o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6095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Conduct an inter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00200" y="685800"/>
            <a:ext cx="66294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Push me!  See how far I go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Work me ‘til I drop.  Then pick me up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Open a door, and then make me run to it befo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it clos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Teach me so that I mgith learn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Then let me enter the tunnel of experienc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alon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And when, near the end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I turn to see you beginning another’s journe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I shall smi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Kathleen, age 1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Mufferaw"/>
              </a:rPr>
              <a:t>The Whole Learner: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Mufferaw"/>
              </a:rPr>
              <a:t>	</a:t>
            </a:r>
            <a:r>
              <a:rPr b="0" lang="en-US" sz="3600" spc="-1" strike="noStrike">
                <a:solidFill>
                  <a:srgbClr val="ebd189"/>
                </a:solidFill>
                <a:latin typeface="Mufferaw"/>
              </a:rPr>
              <a:t>	</a:t>
            </a:r>
            <a:r>
              <a:rPr b="0" lang="en-US" sz="3600" spc="-1" strike="noStrike">
                <a:solidFill>
                  <a:srgbClr val="ebd189"/>
                </a:solidFill>
                <a:latin typeface="Mufferaw"/>
              </a:rPr>
              <a:t> Learning Profile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Mufferaw"/>
              </a:rPr>
              <a:t>Learning Profiles detail the way individuals learn be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88620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Mufferaw"/>
              </a:rPr>
              <a:t>Categories of Learning Profile Factors</a:t>
            </a: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Learning Style Preferen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Intelligence Preferen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Culture-Influence Preferen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Mufferaw"/>
              </a:rPr>
              <a:t>Gender-Based Preferen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Mufferaw"/>
              </a:rPr>
              <a:t>Learning Profiles</a:t>
            </a:r>
            <a:br>
              <a:rPr sz="4000"/>
            </a:br>
            <a:r>
              <a:rPr b="0" i="1" lang="en-US" sz="3600" spc="-1" strike="noStrike">
                <a:solidFill>
                  <a:srgbClr val="ebd189"/>
                </a:solidFill>
                <a:latin typeface="Mufferaw"/>
              </a:rPr>
              <a:t>Learning Style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19320" y="1828800"/>
          <a:ext cx="7391160" cy="434340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Learning Style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Environmental /personal factor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Process oriented-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seeks to see how a person processes information through the senses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Environmental Factors—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quiet/noise    warm/cool  still/mobile  flexible/fixed  busy/spar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Identifies individual’s learning strength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Learning Styles and Strength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657600"/>
            <a:ext cx="1447920" cy="762120"/>
          </a:xfrm>
          <a:prstGeom prst="flowChartPreparation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54"/>
                </a:solidFill>
                <a:latin typeface="Mufferaw"/>
              </a:rPr>
              <a:t>Learn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54"/>
                </a:solidFill>
                <a:latin typeface="Mufferaw"/>
              </a:rPr>
              <a:t>Styl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2666880"/>
            <a:ext cx="990720" cy="838440"/>
          </a:xfrm>
          <a:prstGeom prst="flowChartOffpageConnector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2666880"/>
            <a:ext cx="99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54"/>
                </a:solidFill>
                <a:latin typeface="Mufferaw"/>
              </a:rPr>
              <a:t>Auditory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54"/>
                </a:solidFill>
                <a:latin typeface="Mufferaw"/>
              </a:rPr>
              <a:t>Learner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20" name=""/>
          <p:cNvCxnSpPr/>
          <p:nvPr/>
        </p:nvCxnSpPr>
        <p:spPr>
          <a:xfrm>
            <a:off x="4876560" y="6095520"/>
            <a:ext cx="1080" cy="1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324480" y="3581280"/>
            <a:ext cx="1447920" cy="838440"/>
          </a:xfrm>
          <a:prstGeom prst="flowChartProcess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581280"/>
            <a:ext cx="1600200" cy="76212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800600"/>
            <a:ext cx="1905120" cy="8380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4952880"/>
            <a:ext cx="1600200" cy="68580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8" idx="2"/>
            <a:endCxn id="117" idx="0"/>
          </p:cNvCxnSpPr>
          <p:nvPr/>
        </p:nvCxnSpPr>
        <p:spPr>
          <a:xfrm>
            <a:off x="4609800" y="3504960"/>
            <a:ext cx="1080" cy="153000"/>
          </a:xfrm>
          <a:prstGeom prst="straightConnector1">
            <a:avLst/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126" name=""/>
          <p:cNvCxnSpPr>
            <a:stCxn id="117" idx="2"/>
            <a:endCxn id="124" idx="0"/>
          </p:cNvCxnSpPr>
          <p:nvPr/>
        </p:nvCxnSpPr>
        <p:spPr>
          <a:xfrm>
            <a:off x="4610160" y="4419360"/>
            <a:ext cx="1753200" cy="533880"/>
          </a:xfrm>
          <a:prstGeom prst="straightConnector1">
            <a:avLst/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127" name=""/>
          <p:cNvCxnSpPr>
            <a:stCxn id="117" idx="1"/>
            <a:endCxn id="122" idx="3"/>
          </p:cNvCxnSpPr>
          <p:nvPr/>
        </p:nvCxnSpPr>
        <p:spPr>
          <a:xfrm flipH="1" flipV="1">
            <a:off x="3199680" y="3961800"/>
            <a:ext cx="686520" cy="76680"/>
          </a:xfrm>
          <a:prstGeom prst="straightConnector1">
            <a:avLst/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128" name=""/>
          <p:cNvCxnSpPr/>
          <p:nvPr/>
        </p:nvCxnSpPr>
        <p:spPr>
          <a:xfrm flipH="1">
            <a:off x="2819160" y="4419720"/>
            <a:ext cx="1410480" cy="381600"/>
          </a:xfrm>
          <a:prstGeom prst="straightConnector1">
            <a:avLst/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129" name=""/>
          <p:cNvCxnSpPr>
            <a:stCxn id="121" idx="1"/>
            <a:endCxn id="117" idx="3"/>
          </p:cNvCxnSpPr>
          <p:nvPr/>
        </p:nvCxnSpPr>
        <p:spPr>
          <a:xfrm flipH="1">
            <a:off x="5333400" y="4000320"/>
            <a:ext cx="991080" cy="38520"/>
          </a:xfrm>
          <a:prstGeom prst="straightConnector1">
            <a:avLst/>
          </a:prstGeom>
          <a:ln w="9360">
            <a:solidFill>
              <a:srgbClr val="eaeaea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1752480" y="373392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54"/>
                </a:solidFill>
                <a:latin typeface="Mufferaw"/>
              </a:rPr>
              <a:t>Tactile Learner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3809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54"/>
                </a:solidFill>
                <a:latin typeface="Mufferaw"/>
              </a:rPr>
              <a:t>Visual Learner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495288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54"/>
                </a:solidFill>
                <a:latin typeface="Mufferaw"/>
              </a:rPr>
              <a:t>Tactile/Kinesthetic Learner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0292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54"/>
                </a:solidFill>
                <a:latin typeface="Mufferaw"/>
              </a:rPr>
              <a:t>Kinesthetic Learner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d189"/>
                </a:solidFill>
                <a:latin typeface="Mufferaw"/>
              </a:rPr>
              <a:t>Learning Profiles</a:t>
            </a:r>
            <a:br>
              <a:rPr sz="3600"/>
            </a:br>
            <a:r>
              <a:rPr b="0" i="1" lang="en-US" sz="3200" spc="-1" strike="noStrike">
                <a:solidFill>
                  <a:srgbClr val="ebd189"/>
                </a:solidFill>
                <a:latin typeface="Mufferaw"/>
              </a:rPr>
              <a:t> Multiple Intelligences Strength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1539720"/>
          <a:ext cx="7772400" cy="5317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Brain-based predispositions to lear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Cognitive Model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– 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seeks to describe how a person uses their intelligence to solve problems and create produc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7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Verbal/Linguist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Logical/mathematic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Interperson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Musical/rhythm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Intraperson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Visual/spati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Bodily/kinesthet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Naturalist                                                       </a:t>
                      </a:r>
                      <a:r>
                        <a:rPr b="1" i="1" lang="en-US" sz="20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Gardner, 1993)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Analytic  -- schoolhouse smar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Practical  --seeing how and why things work in the worl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Creative  -- problem-solving/innovative                                               (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Sternberg, 1985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Mufferaw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d189"/>
                </a:solidFill>
                <a:latin typeface="Mufferaw"/>
              </a:rPr>
              <a:t>Multiple Intelligences: </a:t>
            </a:r>
            <a:br>
              <a:rPr sz="3200"/>
            </a:br>
            <a:r>
              <a:rPr b="1" lang="en-US" sz="3200" spc="-1" strike="noStrike">
                <a:solidFill>
                  <a:srgbClr val="ebd189"/>
                </a:solidFill>
                <a:latin typeface="Mufferaw"/>
              </a:rPr>
              <a:t>	</a:t>
            </a:r>
            <a:r>
              <a:rPr b="1" lang="en-US" sz="3200" spc="-1" strike="noStrike">
                <a:solidFill>
                  <a:srgbClr val="ebd189"/>
                </a:solidFill>
                <a:latin typeface="Mufferaw"/>
              </a:rPr>
              <a:t>	</a:t>
            </a:r>
            <a:r>
              <a:rPr b="1" i="1" lang="en-US" sz="3200" spc="-1" strike="noStrike">
                <a:solidFill>
                  <a:srgbClr val="ebd189"/>
                </a:solidFill>
                <a:latin typeface="Mufferaw"/>
              </a:rPr>
              <a:t>How are you smart?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2209680"/>
            <a:ext cx="4724280" cy="327672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209680"/>
            <a:ext cx="0" cy="3353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3886200"/>
            <a:ext cx="4724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276720" y="2666880"/>
            <a:ext cx="3200400" cy="2438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666880"/>
            <a:ext cx="3276360" cy="2362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2895480"/>
            <a:ext cx="914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54"/>
                </a:solidFill>
                <a:latin typeface="Mufferaw"/>
              </a:rPr>
              <a:t>Wor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54"/>
                </a:solidFill>
                <a:latin typeface="Mufferaw"/>
              </a:rPr>
              <a:t>Smar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3581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54"/>
                </a:solidFill>
                <a:latin typeface="Mufferaw"/>
              </a:rPr>
              <a:t>Logic Smar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3886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54"/>
                </a:solidFill>
                <a:latin typeface="Mufferaw"/>
              </a:rPr>
              <a:t>Picture Smar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2670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54"/>
                </a:solidFill>
                <a:latin typeface="Mufferaw"/>
              </a:rPr>
              <a:t>Body Smar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42670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54"/>
                </a:solidFill>
                <a:latin typeface="Mufferaw"/>
              </a:rPr>
              <a:t>Music Smar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297180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54"/>
                </a:solidFill>
                <a:latin typeface="Mufferaw"/>
              </a:rPr>
              <a:t>Self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54"/>
                </a:solidFill>
                <a:latin typeface="Mufferaw"/>
              </a:rPr>
              <a:t>Smar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32767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54"/>
                </a:solidFill>
                <a:latin typeface="Mufferaw"/>
              </a:rPr>
              <a:t>People Smart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3886200"/>
            <a:ext cx="6858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54"/>
                </a:solidFill>
                <a:latin typeface="Mufferaw"/>
              </a:rPr>
              <a:t>Natur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54"/>
                </a:solidFill>
                <a:latin typeface="Mufferaw"/>
              </a:rPr>
              <a:t>Smar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95480" y="31240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866520" cy="669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159080" y="4724280"/>
            <a:ext cx="590760" cy="609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914400" cy="588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248520" y="320040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5029200" y="2352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3962520" y="2362320"/>
            <a:ext cx="636480" cy="647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d189"/>
                </a:solidFill>
                <a:latin typeface="Mufferaw"/>
              </a:rPr>
              <a:t>Learning Profiles</a:t>
            </a:r>
            <a:br>
              <a:rPr sz="3600"/>
            </a:br>
            <a:r>
              <a:rPr b="0" i="1" lang="en-US" sz="3200" spc="-1" strike="noStrike">
                <a:solidFill>
                  <a:srgbClr val="ebd189"/>
                </a:solidFill>
                <a:latin typeface="Mufferaw"/>
              </a:rPr>
              <a:t> Culture-Influenced Preference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66680" y="1676520"/>
          <a:ext cx="7772400" cy="44528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ome learning patterns differ from one culture to another, but there is also a great variance within culture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me:  fixed or flexib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motions:  reserved or effusi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acts:  personal and connected or discrete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d impersonal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etting:  With a group or individuall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d189"/>
                </a:solidFill>
                <a:latin typeface="Mufferaw"/>
              </a:rPr>
              <a:t>Learning Profiles</a:t>
            </a:r>
            <a:br>
              <a:rPr sz="3600"/>
            </a:br>
            <a:r>
              <a:rPr b="0" i="1" lang="en-US" sz="3200" spc="-1" strike="noStrike">
                <a:solidFill>
                  <a:srgbClr val="ebd189"/>
                </a:solidFill>
                <a:latin typeface="Mufferaw"/>
              </a:rPr>
              <a:t> Gender-Influenced Preference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1676520"/>
          <a:ext cx="7772400" cy="2743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l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emal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mpetiti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ross motor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trength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operativ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00"/>
                        </a:buClr>
                        <a:buSzPct val="80000"/>
                        <a:buFont typeface="Wingdings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erbal strength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189"/>
                </a:solidFill>
                <a:latin typeface="Mufferaw"/>
              </a:rPr>
              <a:t>Using Learning Profiles</a:t>
            </a:r>
            <a:br>
              <a:rPr sz="4000"/>
            </a:br>
            <a:r>
              <a:rPr b="1" lang="en-US" sz="4000" spc="-1" strike="noStrike">
                <a:solidFill>
                  <a:srgbClr val="ebd189"/>
                </a:solidFill>
                <a:latin typeface="Mufferaw"/>
              </a:rPr>
              <a:t> in the</a:t>
            </a:r>
            <a:br>
              <a:rPr sz="4000"/>
            </a:br>
            <a:r>
              <a:rPr b="1" lang="en-US" sz="4000" spc="-1" strike="noStrike">
                <a:solidFill>
                  <a:srgbClr val="ebd189"/>
                </a:solidFill>
                <a:latin typeface="Mufferaw"/>
              </a:rPr>
              <a:t> Classroom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6:35:11Z</dcterms:created>
  <dc:creator>pblack</dc:creator>
  <dc:description/>
  <dc:language>en-US</dc:language>
  <cp:lastModifiedBy> Roger Black</cp:lastModifiedBy>
  <dcterms:modified xsi:type="dcterms:W3CDTF">2009-10-20T03:53:21Z</dcterms:modified>
  <cp:revision>47</cp:revision>
  <dc:subject/>
  <dc:title> Creating and using learning profiles in the  classroom</dc:title>
</cp:coreProperties>
</file>